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0671E-4AF9-450C-8B34-0C735807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76C84-1E5B-42C9-99B7-3DF8E661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D5351-89C7-4EFD-8450-DBCC871C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D382A-C68E-4697-BA4F-46E4A07F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EEA1-ABDE-4102-BF92-3E7D27A1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195E-0C52-4433-819D-5F998BAE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E606-4DBB-4D2A-89AD-6A7FDCA2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EE57-4A20-48B8-A4D9-26622DB4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3475-CC9C-4454-920A-363C7CB8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357A-085D-4498-8C97-7B27CBB6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8DBD-2697-4D17-AF21-3697CB2A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F78E9-9053-45E0-BD62-F763CF64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1131-2916-4FD3-9250-4F8FEF2C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62FA-7CB0-4791-B6A7-37EC951C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43A7-3232-4F61-9B82-BDA54F76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F3F2-C297-4852-BAF9-BF690390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9872-0162-4C25-B090-3A158FA8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D1B1D-46A5-40A8-80C5-43255A1A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FFB0C-2332-403E-9DBA-FE6712C3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DE7B3-1950-43CF-9351-9661B54E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D1E7D-A33A-47B4-B74D-AC53DBDF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84834-8D42-4E26-8478-4DB92CB2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3C7FC-1BC6-4EFB-9222-5DCCB1BC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54826-C088-4763-A5B5-76AD771A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F930-7BB2-4BCE-8A93-D3AA13599E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3FC5-E857-4259-B211-F8286F0ED4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ine Analysis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he Affine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reak the Affine cipher all that is necessary is to find the substitution for two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say plaintext “e” is represented in the ciphertext by “c” and plaintext “t” is represented in the ciphertext by “f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wo substitutions define to affine equ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9720" y="4114800"/>
            <a:ext cx="80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2 = a*4 + b mod 26 (since e – character 4 is replaced by c – character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 = a*19 + b mod 26 (since t – character 19 is replaced by f – character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3840" y="5105520"/>
            <a:ext cx="71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ing the two equations for a and b results in the affine key (21,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affine equatio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c = 21*p + 22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D04BA-4DB4-4110-A2C9-CC285EE161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will solve the equations provided you find at least two correct sub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6705720" cy="3343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581280" y="2971800"/>
            <a:ext cx="1295640" cy="685800"/>
          </a:xfrm>
          <a:prstGeom prst="wedgeRoundRectCallout">
            <a:avLst>
              <a:gd name="adj1" fmla="val -45953"/>
              <a:gd name="adj2" fmla="val 6990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stit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2514600"/>
            <a:ext cx="1295640" cy="380880"/>
          </a:xfrm>
          <a:prstGeom prst="wedgeRoundRectCallout">
            <a:avLst>
              <a:gd name="adj1" fmla="val -45953"/>
              <a:gd name="adj2" fmla="val 16583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on 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3276720"/>
            <a:ext cx="1905120" cy="1143000"/>
          </a:xfrm>
          <a:prstGeom prst="wedgeRoundRectCallout">
            <a:avLst>
              <a:gd name="adj1" fmla="val -47250"/>
              <a:gd name="adj2" fmla="val 8861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this appears to be plaintext then you were corr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wise try another sub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15228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DEF65-A336-4C74-BCF0-4C9DF7AC73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13T00:30:51Z</dcterms:modified>
  <cp:revision>31</cp:revision>
  <dc:subject/>
  <dc:title>CAP Cryptographic Analysis Program</dc:title>
</cp:coreProperties>
</file>